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D90-018C-4EA2-98E2-9B6251C2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CA8-A69A-49FD-8FAE-23CEAAF5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046-2765-4131-9937-7BABAA0C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DB0-5DFC-4613-BB97-8B695F55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23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380-08A1-45D5-9EAB-A315246A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2D9-3A70-4F14-9543-02EF5A56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07F-45B5-443A-94B5-A8762160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E64-6354-4268-B731-E368EB9D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23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7E3-F306-430D-8BA7-5B21F5DB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667-624B-446B-ACB8-3585D5C6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BD8-7102-4911-AB4D-460B0B3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5AD-39F5-4590-BD0E-8E3E857D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244920"/>
            <a:ext cx="37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D45-C9BB-4A19-9534-BB175E72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000080" cy="936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11280" y="1125360"/>
            <a:ext cx="68403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38102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2781360"/>
            <a:ext cx="68407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 Task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rk Thomé, Tobias Kra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F – M3 – Projekt Ferienclub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9.09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cket Task Ti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wicklung einer mobilen Client Anwend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tzung von mobilen Datenban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bau der benötigten Infrastrukt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cket Task Timer Location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weiterung der Pocket Task Timer-Anwendung um orts- und zeitabhängige Dien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sitionsbestimmung mittels verschiedener Technologi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weiterung der benötigten Infrastrukt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Task Ti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632-74D9-4D24-A80D-F14212AE2C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itplan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ilenstein 1 – Woche 42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V-Konz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wicklung Prototyp Pocket Task Timer (1. mobile D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valuierung möglicher technischer Konzepte für die Ortsbestimmung des Location Based Servi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ilenstein 2 – Woche 46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weiterung Pocket Task Timer (2. mobile D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wicklung Prototyp Pocket Task Timer Location Based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ilenstein 3 – Woche 03/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bschluss der Entwicklung und Abnahme Pocket Task Ti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bschluss der Entwicklung und Abnahme Pocket Task Timer Location Based Servi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Task Tim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BA3-9FFA-49BB-9768-922D06051A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0:03:04Z</dcterms:created>
  <dc:creator>Jack Smith</dc:creator>
  <dc:description/>
  <dc:language>en-US</dc:language>
  <cp:lastModifiedBy>Jack Smith</cp:lastModifiedBy>
  <dcterms:modified xsi:type="dcterms:W3CDTF">2006-02-15T20:13:53Z</dcterms:modified>
  <cp:revision>196</cp:revision>
  <dc:subject/>
  <dc:title>Folie 1</dc:title>
</cp:coreProperties>
</file>