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6BC7-9ADC-48FD-9B9A-15C518EB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F0E3-8E23-4638-8B5C-21EF568E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12F1-7717-465A-B7DA-0B0E38BF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2296-9AC0-4102-B2E4-9DA4BDA7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2316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3B16-4E6B-433C-BA64-F50E1202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B97F-9A1B-4F46-B192-9A447966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3247-0AEF-4302-B7C2-18203A4D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710F-B926-4DF7-9860-BDBECAC1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2316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CFBC-1404-495A-B752-D884F2C3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1E3C-3D5D-48FF-92FE-7B68FE48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336B-B805-49CB-9619-AF41D362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E80-86B0-4737-B06C-245DCA4E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244920"/>
            <a:ext cx="37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D1E8-399C-4BA8-BCB6-56BCB4EC1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000080" cy="936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11280" y="1125360"/>
            <a:ext cx="68403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076720" y="189000"/>
            <a:ext cx="381024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6920" y="2781360"/>
            <a:ext cx="684072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 Task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rk Thomé, Tobias Kra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NF – M3 – Projekt Ferienclub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4.1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e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ocket Task Tim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ntwicklung einer mobilen Client Anwendu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utzung von mobilen Datenban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ufbau der benötigten Infrastrukt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ocket Task Timer Location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rweiterung der Pocket Task Timer-Anwendung um orts- und zeitabhängige Diens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ositionsbestimmung mittels verschiedener Technologi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Bluetoo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WL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G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G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rweiterung der benötigten Infrastrukt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1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eilenstein 1 – Woche 42/20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V-Konze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ntwicklung Prototyp Pocket Task Timer (1. mobile DB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valuierung möglicher technischer Konzepte für die Ortsbestimmung des Location Based Servic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eilenstein 2 – Woche 46/20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rweiterung Pocket Task Timer (2. mobile D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ntwicklung Prototyp Pocket Task Timer Location Based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eilenstein 3 – Woche 03/2006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bschluss der Entwicklung und Abnahme Pocket Task Tim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bschluss der Entwicklung und Abnahme Pocket Task Timer Location Based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itplan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686440" y="400536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8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5320" y="3573360"/>
            <a:ext cx="3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68400" y="170028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93120" y="213372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32760" y="249228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455680" y="4005360"/>
            <a:ext cx="3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1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 Task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2361960" cy="3562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348000" y="1557360"/>
            <a:ext cx="2362320" cy="3562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084720" y="1557360"/>
            <a:ext cx="2362320" cy="356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1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 Task Timer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361960" cy="3562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419640" y="1844640"/>
            <a:ext cx="2361960" cy="3562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084720" y="1844640"/>
            <a:ext cx="2362320" cy="35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1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 Task Timer (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2361960" cy="3562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19640" y="1916280"/>
            <a:ext cx="2361960" cy="3562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156360" y="1989000"/>
            <a:ext cx="2362320" cy="35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1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 Task Timer (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2361960" cy="356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1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10:03:04Z</dcterms:created>
  <dc:creator>Jack Smith</dc:creator>
  <dc:description/>
  <dc:language>en-US</dc:language>
  <cp:lastModifiedBy>Jack Smith</cp:lastModifiedBy>
  <dcterms:modified xsi:type="dcterms:W3CDTF">2006-02-15T20:14:03Z</dcterms:modified>
  <cp:revision>200</cp:revision>
  <dc:subject/>
  <dc:title>Folie 1</dc:title>
</cp:coreProperties>
</file>