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15DD-5D07-4212-9CE7-2647CB8EF58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cs.cmu.edu/~galk/Publications/01/gamebots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887-BF1B-453B-B9D9-34A2E4F37C43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8440" y="3966120"/>
            <a:ext cx="716292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82844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9900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50160" y="1554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72240" y="1554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828440" y="3966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50160" y="3966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72240" y="3966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800" y="1035000"/>
            <a:ext cx="73152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900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3966120"/>
            <a:ext cx="716292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3966120"/>
            <a:ext cx="716292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9900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50160" y="1554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72240" y="1554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3966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50160" y="3966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72240" y="3966120"/>
            <a:ext cx="2306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828800" y="1035000"/>
            <a:ext cx="73152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44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9000" y="3966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01484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99000" y="1554120"/>
            <a:ext cx="3495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3966120"/>
            <a:ext cx="716292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tuff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3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Text Box 18"/>
          <p:cNvSpPr/>
          <p:nvPr/>
        </p:nvSpPr>
        <p:spPr>
          <a:xfrm>
            <a:off x="63360" y="190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W Hambur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13560"/>
            <a:ext cx="9144000" cy="235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JARTS - Ein Jadex-Framework zur einfachen Integration von BDI-Agenten in ein Echtzeitstrategiespiel - AW 2 - Gregor Balthasar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23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24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25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26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27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28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29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30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31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32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1" descr="stuff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0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3360" y="190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W Hambur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360" y="3208320"/>
            <a:ext cx="8205840" cy="29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cab1a"/>
                </a:solidFill>
                <a:latin typeface="Verdana"/>
              </a:rPr>
              <a:t>Präsentation AW 2 – SoSe 2009</a:t>
            </a:r>
            <a:br>
              <a:rPr sz="2800"/>
            </a:br>
            <a:r>
              <a:rPr b="1" lang="de-DE" sz="2800" spc="-1" strike="noStrike">
                <a:solidFill>
                  <a:srgbClr val="183883"/>
                </a:solidFill>
                <a:latin typeface="Verdana"/>
              </a:rPr>
              <a:t> </a:t>
            </a:r>
            <a:r>
              <a:rPr b="1" lang="de-DE" sz="2000" spc="-1" strike="noStrike">
                <a:solidFill>
                  <a:srgbClr val="183883"/>
                </a:solidFill>
                <a:latin typeface="Verdana"/>
              </a:rPr>
              <a:t>Gregor Balthasar</a:t>
            </a:r>
            <a:br>
              <a:rPr sz="2800"/>
            </a:br>
            <a:r>
              <a:rPr b="1" lang="de-DE" sz="3600" spc="-1" strike="noStrike">
                <a:solidFill>
                  <a:srgbClr val="fcab1a"/>
                </a:solidFill>
                <a:latin typeface="Verdana"/>
              </a:rPr>
              <a:t> </a:t>
            </a:r>
            <a:r>
              <a:rPr b="1" lang="de-DE" sz="2800" spc="-1" strike="noStrike">
                <a:solidFill>
                  <a:srgbClr val="fcab1a"/>
                </a:solidFill>
                <a:latin typeface="Verdana"/>
              </a:rPr>
              <a:t>JARTS - JAdex plays RealTime Strategy</a:t>
            </a:r>
            <a:br>
              <a:rPr sz="3600"/>
            </a:br>
            <a:r>
              <a:rPr b="1" lang="de-DE" sz="3200" spc="-1" strike="noStrike">
                <a:solidFill>
                  <a:srgbClr val="183883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183883"/>
                </a:solidFill>
                <a:latin typeface="Verdana"/>
              </a:rPr>
              <a:t>Ein Jadex-Framework zur einfachen Integration von BDI-Agenten in ein Echtzeitstrategiespiel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te of the A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Bot-Frameworks „alt“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Contestumgebung nur spielähnlich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Rundenbasiert =&gt; keine Echtzeitanforderung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zenario wenig komplex (Agenten besitzen nur Bewegungseffektoren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8388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State of the Art schwer formulierbar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4cce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These: „Die bestehenden Frameworks reichen trotz ihres Alters aus, um die für sie gesetzten Ziele immer noch zu erfüllen und das Nutzen/Aufwand Verhältnis Frameworks für modernere Computerspiele zu erstellen wäre zu gering.“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Warum also trotzdem ein weiteres Framework?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ied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Einführun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Testumgebung für verteilte KI „meets“ Videospiel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Projekt JAR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Vergleichbare Arbeite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FlexBo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ameBo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AgentContes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tate of the Art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3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183883"/>
                </a:solidFill>
                <a:uFillTx/>
                <a:latin typeface="Arial"/>
              </a:rPr>
              <a:t>Abgrenzung der Arbeiten von JAR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zenariobedingte Unterschied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Unterschiedliche Zielsetzung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emeinsamkeiten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Fazi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zenariobedingte Unterschie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Bisher nur Bot-Frameworks für First Person Shooter Spiel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JARTS soll ein Framework für ein Realtime Strategy Spiel werde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388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Völlig andere Anforderungen an ein MA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interessante Fragestellungen: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4cce2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Instanzierung von zusätzlichen Agenten als „Commander“,                       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 „</a:t>
            </a: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Sub-Commander“, etc. ?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4cce2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Spielerunterstützung (sehr enge Mensch-Agent-Beziehung)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4cce2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Testumgebung für Selbstorganisierte Systeme?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4cce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Eheste Ähnlichkeit zur AgentContest Umgebung, aber…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Echtzeitanforderung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rößere Komplexität des Szenarios (+ viele Effektoren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terschiedliche Zielsetz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828440" y="1553760"/>
            <a:ext cx="71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Zielsetzung der Bot-Framework Testumgebungen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Hauptziel: Einsatz in Forschung/Lehr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ekundär: Testen der Glaubwürdigkeit von Künstlicher Intelligenz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Zielsetzung der AgentContest Testumgebung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Identifizierung von Schlüsselproblemen bei der Entwicklung von MA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Bewertung von MAS-spezifischen Tools und Methodologi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Zielsetzung der JARTS-Framework Testumgebung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Einsatz in der Lehre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Bewertung von Geschwindigkeit/Stabilität eines MAS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Testen der Glaubwürdigkeit von Künstlicher Intelligenz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Testen der Möglichkeit Agenten zur Spielerunterstützung zu nutzen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Vorläufig nur für Jadex (respektive andere Java-basierte Systeme)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meinsamkei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Sowohl die Bot-Frameworks als auch JARTS setzen auf bestehenden, komplexen Videospielen auf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Vorteil: wegfallender Aufwand für die Entwicklung der eigentlichen Testumgebung (mit steigender Komplexität ist Balancing nötig =&gt; immenser Aufwand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Nachteil: Änderbarkeit der Umgebung nur bedingt möglich (Level-Editoren, Mod-Programmierung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GameBots, AgentContest und JARTS setzen auf eine TCP-Verbindun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=&gt; Bei JARTS aufgrund des interessanten Aspekts der Spielerunterstützung in sehr komplexen Spielen (das mit JARTS laufende MAS zwischen eigentlichem Game-Client und Game-Server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ied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Einführun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Testumgebung für verteilte KI „meets“ Videospiel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Projekt JAR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Vergleichbare Arbeite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FlexBo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ameBo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AgentContes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tate of the Art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Abgrenzung der Arbeiten von JAR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zenariobedingte Unterschied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Unterschiedliche Zielsetzung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emeinsamkeiten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3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183883"/>
                </a:solidFill>
                <a:uFillTx/>
                <a:latin typeface="Arial"/>
              </a:rPr>
              <a:t>Fazi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Framework zur Anbindung eines Multiagentensystems an ein komplexes Realtime Strategy Spiel tatsächlich etwas Neues!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Klare Abgrenzung zu den Zielen bestehender Bot-Frameworks und auch zu denen verschiedener Contests, die mit Testumgebungen aufwarten (auch wenn natürlich Überschneidungen in der Zielsetzung bestehen)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terat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ADOBBATI, Rogelio ; MARSHALL, Andrew N. ; SCHOLER, Andrew ; 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TEJADA, Sheila: Gamebots: A 3D Virtual World Test-Bed For Multi-Agent Research. In: Proceedings of the Second International Workshop on Infrastructure for Agents, MAS, and </a:t>
            </a: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Scalable MAS, 2001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BALTHASAR, Gregor: Agentenbasierte Schwarmsteuerung in einer kompetitiven, dynamischen Umgebung, HAW Hamburg, Bachelorthesis, 2008. – URL http://opus.haw-hamburg.de/volltexte/2008/634/pdf/ba_thesis_Gregor_Balthasar.pdf. – Zugriffsdatum: 2009.06.14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BALTHASAR, Gregor ; SUDEIKAT, Jan ; RENZ, Wolfgang: On coordinating 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of artificial cowboys: Using jadex to implement herding agents. Erscheint in: Programming Multi-Agent Systems, 6th International Workshop, ProMAS 2008, Revised and </a:t>
            </a: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Selected Papers, Springer, 2008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BEHRENS, Tristan M. ; DASTANI, Mehdi ; DIX, Jürgen ; NOVÁK, Peter: 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Agent Contest Competition: 4th Edition. In: Postproceedings of Sixth International Workshop on Programming Multi-Agent Systems, ProMAS’08, LNAI, Springer, 2008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terat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BRAUBACH, Lars ; POKAHR, Alexander ; LAMERSDORF, Winfried: 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Extending the Capability Concept for Flexible BDI Agent Modularization. In: Proc. Of </a:t>
            </a: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PROMAS-2005, 2005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BUSETTA, Paolo ; HOWDEN, Nicholas ; RÖNNQUIST, Ralph ; 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HODGSON, Andrew: Structuring BDI Agents in Functional Clusters. In: ATAL ’99, Springer, </a:t>
            </a: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2000, S. 277–289. – ISBN 3-540-67200-1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183883"/>
                </a:solidFill>
                <a:latin typeface="Arial"/>
              </a:rPr>
              <a:t>DUNHAM, Greg: FlexBot Beta 1 Manual. – URL http://www.cs.</a:t>
            </a: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northwestern.edu/~gdunham/flexbot/manual/index.htm. – Zugriffsdatum: 2009.06.13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LIVINGSTONE, Daniel: Turing’s test and believable AI in games. In: Comput. </a:t>
            </a:r>
            <a:r>
              <a:rPr b="0" lang="nn-NO" sz="1600" spc="-1" strike="noStrike">
                <a:solidFill>
                  <a:srgbClr val="183883"/>
                </a:solidFill>
                <a:latin typeface="Arial"/>
              </a:rPr>
              <a:t>Entertain. 4 (2006), Nr. 1, S. 6. – ISSN 1544-3574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RUSSEL, Stuart J. ; NORVIG, Peter: Artificial Intelligence: A </a:t>
            </a: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Modern Approach. Pearson Education, 2003. – ISBN 0-13-080302-2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WOOLDRIDGE, Michael: An introduction to multiagent systems. Wiley, </a:t>
            </a:r>
            <a:r>
              <a:rPr b="0" lang="de-DE" sz="1600" spc="-1" strike="noStrike">
                <a:solidFill>
                  <a:srgbClr val="183883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83883"/>
                </a:solidFill>
                <a:latin typeface="Arial"/>
              </a:rPr>
              <a:t>Vielen Dank für Ihre Aufmerksamkeit!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83883"/>
                </a:solidFill>
                <a:latin typeface="Arial"/>
              </a:rPr>
              <a:t>                       </a:t>
            </a:r>
            <a:r>
              <a:rPr b="0" lang="de-DE" sz="2800" spc="-1" strike="noStrike">
                <a:solidFill>
                  <a:srgbClr val="183883"/>
                </a:solidFill>
                <a:latin typeface="Arial"/>
              </a:rPr>
              <a:t>Fragen?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ied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Einführun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Testumgebung für verteilte KI „meets“ Videospiel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Projekt JAR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Vergleichbare Arbeite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FlexBo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ameBo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AgentContes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tate of the Art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Abgrenzung der Arbeiten von JAR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zenariobedingte Unterschied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Unterschiedliche Zielsetzung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emeinsamkeiten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Fazi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ied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83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183883"/>
                </a:solidFill>
                <a:uFillTx/>
                <a:latin typeface="Arial"/>
              </a:rPr>
              <a:t>Einführun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Testumgebung für verteilte KI „meets“ Videospiel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Projekt JAR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Vergleichbare Arbeite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FlexBo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ameBo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AgentContes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tate of the Art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Abgrenzung der Arbeiten von JAR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zenariobedingte Unterschied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Unterschiedliche Zielsetzung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emeinsamkeiten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Fazi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estumgebung für verteilte KI „meets“ Videosp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Testumgebungen für verteilte KI (hier am Beispiel Multiagentensysteme) notwendi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Ansprüche an eine solche Testumgebung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dynamisch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konsisten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nicht-deterministisch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komplex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gf. Mensch-Agent-Interaktio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Computerspiele bieten so geartete Umgebung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Zu beachten: Zielsetzungen von Testumgebungen können variieren!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 J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Jadex-Framework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Kapselt Kommunikation zwischen Agent(en) und einem Echtzeitstrategiespiel (möglicher Kandidat: Spring-Engine)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Kommunikation über ein Netzwerkprotokoll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ensoren über Jadex-Even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Effektoren über Jadex-Goal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Zielsetzung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Einsatz in der Lehr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Identifikation von Problemen bei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der Entwicklung von MA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tabilitäts- und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eschwindigkeitstes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Bewertung der Glaubwürdigkeit von KI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370560" y="3071880"/>
            <a:ext cx="2529000" cy="3133800"/>
          </a:xfrm>
          <a:prstGeom prst="rect">
            <a:avLst/>
          </a:prstGeom>
          <a:ln w="0">
            <a:noFill/>
          </a:ln>
        </p:spPr>
      </p:pic>
      <p:sp>
        <p:nvSpPr>
          <p:cNvPr id="110" name="Textfeld 4"/>
          <p:cNvSpPr/>
          <p:nvPr/>
        </p:nvSpPr>
        <p:spPr>
          <a:xfrm>
            <a:off x="6863400" y="6389640"/>
            <a:ext cx="187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83883"/>
                </a:solidFill>
                <a:latin typeface="Arial"/>
              </a:rPr>
              <a:t>Quelle: http://springrts.com/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ied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Einführung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Testumgebung für verteilte KI „meets“ Videospiel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Projekt JAR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3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183883"/>
                </a:solidFill>
                <a:uFillTx/>
                <a:latin typeface="Arial"/>
              </a:rPr>
              <a:t>Vergleichbare Arbeite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FlexBo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ameBots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AgentContes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838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tate of the Art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Abgrenzung der Arbeiten von JAR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zenariobedingte Unterschiede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Unterschiedliche Zielsetzungen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Gemeinsamkeiten?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Fazi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lex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Modification (Mod) für Half-Lif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Besteht aus einer DLL mit folgenden Eigenschaften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Kapselung der Kommunikation mit Game-Server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DLL wird von Half-Life geladen: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4cce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83883"/>
                </a:solidFill>
                <a:latin typeface="Arial"/>
              </a:rPr>
              <a:t>Aufruf weiterer DLLs, die dann den eigentlichen Bot-Code enthalten</a:t>
            </a:r>
            <a:endParaRPr b="0" lang="en-US" sz="1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Bietet Sensoren und Effektoren per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Methodenaufruf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5" name="Picture 2" descr="http://www.cs.northwestern.edu/%7Egdunham/flexbot/images/flexbot-flow.gif"/>
          <p:cNvPicPr/>
          <p:nvPr/>
        </p:nvPicPr>
        <p:blipFill>
          <a:blip r:embed="rId1"/>
          <a:stretch/>
        </p:blipFill>
        <p:spPr>
          <a:xfrm>
            <a:off x="1839960" y="4441680"/>
            <a:ext cx="4038480" cy="104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6297480" y="3279600"/>
            <a:ext cx="2614680" cy="3108600"/>
          </a:xfrm>
          <a:prstGeom prst="rect">
            <a:avLst/>
          </a:prstGeom>
          <a:ln w="0">
            <a:noFill/>
          </a:ln>
        </p:spPr>
      </p:pic>
      <p:sp>
        <p:nvSpPr>
          <p:cNvPr id="117" name="Textfeld 5"/>
          <p:cNvSpPr/>
          <p:nvPr/>
        </p:nvSpPr>
        <p:spPr>
          <a:xfrm>
            <a:off x="4402800" y="6389640"/>
            <a:ext cx="435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83883"/>
                </a:solidFill>
                <a:latin typeface="Arial"/>
              </a:rPr>
              <a:t>Quelle: http://www.cs.northwestern.edu/~gdunham/flexbot/about.ht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ameB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Modul für Unreal Tournament (99/2003/2004)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Kapselt Kommunikation mit dem Server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Clients verbinden sich per TCP mit dem GameBot-Server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ensor- und Effektordaten über festgelegtes Nachrichtenprotokoll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Plattformunabhängigkei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51200" y="3614760"/>
            <a:ext cx="3744720" cy="2779560"/>
          </a:xfrm>
          <a:prstGeom prst="rect">
            <a:avLst/>
          </a:prstGeom>
          <a:ln w="0">
            <a:noFill/>
          </a:ln>
        </p:spPr>
      </p:pic>
      <p:pic>
        <p:nvPicPr>
          <p:cNvPr id="121" name="Grafik 5" descr="ut2003(2b).jpg"/>
          <p:cNvPicPr/>
          <p:nvPr/>
        </p:nvPicPr>
        <p:blipFill>
          <a:blip r:embed="rId2"/>
          <a:stretch/>
        </p:blipFill>
        <p:spPr>
          <a:xfrm>
            <a:off x="6162840" y="3060720"/>
            <a:ext cx="2815920" cy="3340080"/>
          </a:xfrm>
          <a:prstGeom prst="rect">
            <a:avLst/>
          </a:prstGeom>
          <a:ln w="0">
            <a:noFill/>
          </a:ln>
        </p:spPr>
      </p:pic>
      <p:sp>
        <p:nvSpPr>
          <p:cNvPr id="122" name="Textfeld 6"/>
          <p:cNvSpPr/>
          <p:nvPr/>
        </p:nvSpPr>
        <p:spPr>
          <a:xfrm>
            <a:off x="338040" y="6389640"/>
            <a:ext cx="848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83883"/>
                </a:solidFill>
                <a:latin typeface="Arial"/>
              </a:rPr>
              <a:t>Quellen: http://www.cs.cmu.edu/~galk/Publications/01/gamebots.pdf , http://www.unrealtournament2003.com/ut2003/screenshots.htm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1035000"/>
            <a:ext cx="7315200" cy="419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entCon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554120"/>
            <a:ext cx="716292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83883"/>
                </a:solidFill>
                <a:latin typeface="Arial"/>
              </a:rPr>
              <a:t>Frei verfügbare Serverimplementation eines spezifischen Umgebungsszenario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Verbindung über TCP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Sensoren/Effektoren realisiert durch Nachrichtenaustausch im XML-Forma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3883"/>
                </a:solidFill>
                <a:latin typeface="Arial"/>
              </a:rPr>
              <a:t>Rundenbasiert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25" name="Picture 1" descr="C:\Users\Zerwas\Documents\aw2\contest.jpg"/>
          <p:cNvPicPr/>
          <p:nvPr/>
        </p:nvPicPr>
        <p:blipFill>
          <a:blip r:embed="rId1"/>
          <a:stretch/>
        </p:blipFill>
        <p:spPr>
          <a:xfrm>
            <a:off x="4865760" y="2971800"/>
            <a:ext cx="3414600" cy="342252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4"/>
          <p:cNvSpPr/>
          <p:nvPr/>
        </p:nvSpPr>
        <p:spPr>
          <a:xfrm>
            <a:off x="5801040" y="638964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83883"/>
                </a:solidFill>
                <a:latin typeface="Arial"/>
              </a:rPr>
              <a:t>Quelle: Screenshot des Servermonitor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Presentation Helper</dc:creator>
  <dc:description/>
  <dc:language>en-US</dc:language>
  <cp:lastModifiedBy>Zerwas</cp:lastModifiedBy>
  <dcterms:modified xsi:type="dcterms:W3CDTF">2009-06-18T09:36:44Z</dcterms:modified>
  <cp:revision>152</cp:revision>
  <dc:subject/>
  <dc:title>Corporate 2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